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05A-4CDE-43A2-AFFB-F35D4C6A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2EE-479D-4F5B-A4A7-A43A5EA9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318-0CB6-4153-A64F-0EA94316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680-776B-45DD-A1C8-98BE010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6821-3971-4332-A4E6-F3AFFCB6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14B3-A3DC-4FA3-B966-DBFEA57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208F-354D-4F4B-9784-45EA01D2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AD8-4085-465C-AF96-C8A81BA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46C-F724-4C19-9BD5-8773218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0EDA-81AF-420B-80BA-51649B39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E426-C35A-447F-99EA-9F559E6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9F8-EFB2-488E-A506-02B8D59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D8FB-2904-4B9B-9F2A-C6F0524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C7F-B69F-4B0D-8C41-B048BD5F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FC83-2325-4AB1-90ED-AE36234B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19B-0CD2-4C76-B9C2-7BB8E471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719B-FAFA-41ED-86CB-9D29E61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191-ECE1-4D5B-92DF-59F5770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38B-9975-490A-8AEE-61EDCC7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941-3E56-4DB1-8D9C-5AF69C9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E94-A033-410C-8FD0-DA78311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7C1-F8F6-4C5F-B3B3-AC1B086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113-BC24-422A-A420-971FB50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17E-F1AB-4D03-9AC0-A6A8FFEF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483-1536-478E-B992-841C2739EEFE}" type="slidenum"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2D87-ACF3-4572-911E-7C05991675B0}" type="slidenum"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4608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C Futura Casual"/>
              </a:rPr>
              <a:t>Me llamo___________     Clase 8 IM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C Futura Casual"/>
              </a:rPr>
              <a:t>La fecha es el 6 de diciembre del 2011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area # 19:</a:t>
            </a:r>
            <a:r>
              <a:rPr b="1" lang="es-ES_tradnl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mplete the sentence with the correct form of SABER or CONOCER. It is possible to use the infinitive.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C Futura Casu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1. Marta, ¿qué _____________ tú del presidente de Los Estados Unidos?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Yo ________que es Barak Obama. Pero no lo _________ personalmente.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2. El guía ________ dónde hay lugares interesantes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ahoma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 ___________ bien la geografía de Chile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Y él también ____________ conducir bien.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3. Ese paciente tiene síntomas del Mal de Alzheimer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ahoma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 ya no ____________a su esposa. A veces no ____________ dónde vive. Algunos días no __________ usar la tele.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. Mis estudiantes _____________ hablar español bien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los tienen ganas de _____________ España algún día.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5. ¿Quién ______________cuánto cuesta viajar a Chile?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d.__________________ a un agente de turismo. Pregúnteselo.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ask him/her)</a:t>
            </a:r>
            <a:endParaRPr b="0" lang="en-US" sz="18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1:35:32Z</dcterms:created>
  <dc:creator>Helen Zumaeta</dc:creator>
  <dc:description/>
  <dc:language>en-US</dc:language>
  <cp:lastModifiedBy>Helen Zumaeta</cp:lastModifiedBy>
  <dcterms:modified xsi:type="dcterms:W3CDTF">2011-12-02T05:13:57Z</dcterms:modified>
  <cp:revision>2</cp:revision>
  <dc:subject/>
  <dc:title>Me llamo___________     Clase 8 IM La fecha es el 2 de diciembre del 2011</dc:title>
</cp:coreProperties>
</file>